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66F-AFCF-436A-B549-94A038BB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9332-F511-426E-B634-E397E535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5D6D-EF89-41E2-AEAE-0FB5BB91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770-0813-4457-9F30-9FBFC40C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6DC-8FBC-4D49-94CE-7C8DEC47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9E9-D53C-47E6-9DEB-1774BEDD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9517-67FE-4D79-B25C-9F2CA7CD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E84-7670-42AA-90D8-B2CC545A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D3F7-01BB-4194-9F50-7E95093A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4954-B400-4CCB-8EA1-FC38D79E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0948-E7F7-471D-A274-A47A06A1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B73-18F8-4392-8D83-8301A0F4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FB13-3839-48CA-B0BF-6D437E917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veuse"/>
              </a:rPr>
              <a:t>VOLUME CUBE UN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in 0.240 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volume cube"/>
          <p:cNvPicPr/>
          <p:nvPr/>
        </p:nvPicPr>
        <p:blipFill>
          <a:blip r:embed="rId1"/>
          <a:stretch/>
        </p:blipFill>
        <p:spPr>
          <a:xfrm>
            <a:off x="762120" y="457200"/>
            <a:ext cx="754380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volume cube units block"/>
          <p:cNvPicPr/>
          <p:nvPr/>
        </p:nvPicPr>
        <p:blipFill>
          <a:blip r:embed="rId1"/>
          <a:stretch/>
        </p:blipFill>
        <p:spPr>
          <a:xfrm>
            <a:off x="1219320" y="304920"/>
            <a:ext cx="640080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labeled cube"/>
          <p:cNvPicPr/>
          <p:nvPr/>
        </p:nvPicPr>
        <p:blipFill>
          <a:blip r:embed="rId1"/>
          <a:stretch/>
        </p:blipFill>
        <p:spPr>
          <a:xfrm>
            <a:off x="1066680" y="336600"/>
            <a:ext cx="71629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colored &amp; labeled cube units block"/>
          <p:cNvPicPr/>
          <p:nvPr/>
        </p:nvPicPr>
        <p:blipFill>
          <a:blip r:embed="rId1"/>
          <a:stretch/>
        </p:blipFill>
        <p:spPr>
          <a:xfrm>
            <a:off x="1066680" y="517680"/>
            <a:ext cx="678204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versions to know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0880" y="838080"/>
            <a:ext cx="8229600" cy="4525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 dm</a:t>
            </a:r>
            <a:r>
              <a:rPr b="0" lang="en-US" sz="4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= 1 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 cm</a:t>
            </a:r>
            <a:r>
              <a:rPr b="0" lang="en-US" sz="4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= 1 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 m</a:t>
            </a:r>
            <a:r>
              <a:rPr b="0" lang="en-US" sz="4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= 1000 L = 1 k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ubic meter liter.jpg"/>
          <p:cNvPicPr/>
          <p:nvPr/>
        </p:nvPicPr>
        <p:blipFill>
          <a:blip r:embed="rId1"/>
          <a:stretch/>
        </p:blipFill>
        <p:spPr>
          <a:xfrm>
            <a:off x="2209680" y="3025800"/>
            <a:ext cx="5070600" cy="3832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A cubic meter is larg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ntent Placeholder 3" descr="cubic meter.jpg"/>
          <p:cNvPicPr/>
          <p:nvPr/>
        </p:nvPicPr>
        <p:blipFill>
          <a:blip r:embed="rId1"/>
          <a:stretch/>
        </p:blipFill>
        <p:spPr>
          <a:xfrm>
            <a:off x="1427040" y="920880"/>
            <a:ext cx="5911920" cy="112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0c0"/>
                </a:solidFill>
                <a:latin typeface="Arial Black"/>
              </a:rPr>
              <a:t>1 mL = 1 cm</a:t>
            </a:r>
            <a:r>
              <a:rPr b="0" lang="en-US" sz="5400" spc="-1" strike="noStrike" baseline="30000">
                <a:solidFill>
                  <a:srgbClr val="0070c0"/>
                </a:solidFill>
                <a:latin typeface="Arial Black"/>
              </a:rPr>
              <a:t>3</a:t>
            </a:r>
            <a:r>
              <a:rPr b="0" lang="en-US" sz="5400" spc="-1" strike="noStrike">
                <a:solidFill>
                  <a:srgbClr val="0070c0"/>
                </a:solidFill>
                <a:latin typeface="Arial Black"/>
              </a:rPr>
              <a:t> = 1 c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3" descr="1mL=1cc.jpg"/>
          <p:cNvPicPr/>
          <p:nvPr/>
        </p:nvPicPr>
        <p:blipFill>
          <a:blip r:embed="rId1"/>
          <a:stretch/>
        </p:blipFill>
        <p:spPr>
          <a:xfrm>
            <a:off x="380880" y="1606680"/>
            <a:ext cx="8534520" cy="5251320"/>
          </a:xfrm>
          <a:prstGeom prst="rect">
            <a:avLst/>
          </a:prstGeom>
          <a:ln w="0">
            <a:noFill/>
          </a:ln>
        </p:spPr>
      </p:pic>
      <p:sp>
        <p:nvSpPr>
          <p:cNvPr id="54" name="Oval Callout 4"/>
          <p:cNvSpPr/>
          <p:nvPr/>
        </p:nvSpPr>
        <p:spPr>
          <a:xfrm>
            <a:off x="5867280" y="1219320"/>
            <a:ext cx="3276720" cy="1600200"/>
          </a:xfrm>
          <a:prstGeom prst="wedgeEllipseCallout">
            <a:avLst>
              <a:gd name="adj1" fmla="val -80347"/>
              <a:gd name="adj2" fmla="val -4972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Know these convers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9144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liters are in 3.68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think of your conversion factors for a liter.  What is 1 L equal to in cubic un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 L = 1 d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1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qual to in liter un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 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= 1000 l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ow you are ready to sol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t with your given.  If 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up top than 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must go on bott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.68 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4"/>
          <p:cNvSpPr/>
          <p:nvPr/>
        </p:nvSpPr>
        <p:spPr>
          <a:xfrm>
            <a:off x="609480" y="5715000"/>
            <a:ext cx="41911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6"/>
          <p:cNvSpPr/>
          <p:nvPr/>
        </p:nvSpPr>
        <p:spPr>
          <a:xfrm flipH="1">
            <a:off x="2131560" y="5106960"/>
            <a:ext cx="324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4:48:21Z</dcterms:created>
  <dc:creator>jluckey</dc:creator>
  <dc:description/>
  <dc:language>en-US</dc:language>
  <cp:lastModifiedBy>jluckey</cp:lastModifiedBy>
  <dcterms:modified xsi:type="dcterms:W3CDTF">2011-08-07T21:02:59Z</dcterms:modified>
  <cp:revision>4</cp:revision>
  <dc:subject/>
  <dc:title>Slide 1</dc:title>
</cp:coreProperties>
</file>